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844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348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31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10155240"/>
            <a:ext cx="327348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5240"/>
            <a:ext cx="32731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5FCAB9-40C3-479F-AD69-EC9EBDEC0AB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9"/>
          <p:cNvSpPr/>
          <p:nvPr/>
        </p:nvSpPr>
        <p:spPr>
          <a:xfrm>
            <a:off x="4280040" y="10155240"/>
            <a:ext cx="3273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B54660-2DC7-4B7F-93E2-D322EE15C15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9"/>
          <p:cNvSpPr/>
          <p:nvPr/>
        </p:nvSpPr>
        <p:spPr>
          <a:xfrm>
            <a:off x="4280040" y="10155240"/>
            <a:ext cx="3273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97831A-8EE7-4064-8C24-24F540BB420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9"/>
          <p:cNvSpPr/>
          <p:nvPr/>
        </p:nvSpPr>
        <p:spPr>
          <a:xfrm>
            <a:off x="4280040" y="10155240"/>
            <a:ext cx="3273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09E16-3119-4283-8C2F-5B13F5609C9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9"/>
          <p:cNvSpPr/>
          <p:nvPr/>
        </p:nvSpPr>
        <p:spPr>
          <a:xfrm>
            <a:off x="4280040" y="10155240"/>
            <a:ext cx="3273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E7459-D425-4E39-8720-40C910B659B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9"/>
          <p:cNvSpPr/>
          <p:nvPr/>
        </p:nvSpPr>
        <p:spPr>
          <a:xfrm>
            <a:off x="4280040" y="10155240"/>
            <a:ext cx="3273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AF2F47-B411-4A28-97AC-1E7723638BA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9"/>
          <p:cNvSpPr/>
          <p:nvPr/>
        </p:nvSpPr>
        <p:spPr>
          <a:xfrm>
            <a:off x="4280040" y="10155240"/>
            <a:ext cx="3273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FA4C42-CEFF-4A66-BA06-A48841F9F68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D437-866E-47C2-905D-96235FE25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31480"/>
            <a:ext cx="906444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1846-8FFA-4A80-902C-E069130B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31480"/>
            <a:ext cx="906444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0A59-4DB9-4D3D-BE0B-8D38C179B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31480"/>
            <a:ext cx="906444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DEBB-4970-471E-A761-917D74B4E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31480"/>
            <a:ext cx="906444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E69D-A22D-40E0-9329-DEAE8C0F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31480"/>
            <a:ext cx="906444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60B6-0AE1-4864-998D-B3C74452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31480"/>
            <a:ext cx="906444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FCB0-9D75-421A-974A-1238DD14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31480"/>
            <a:ext cx="906444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DF88-82D7-4DFD-B98E-CC638E32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31480"/>
            <a:ext cx="906444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3032-072E-45E7-9D94-5C4089C3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31480"/>
            <a:ext cx="906444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FB0A-F19A-4B92-A5EF-AE024E5B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31480"/>
            <a:ext cx="906444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D6C4-5213-4F44-A2B9-90F770D0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31480"/>
            <a:ext cx="906444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9E60-2F0E-4226-9825-2D5F94CC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31480"/>
            <a:ext cx="906444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1132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1276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1276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CCFAE39-0017-4348-99B5-80C9EF03FA4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900000" y="539640"/>
            <a:ext cx="88203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WordArt 2" descr=""/>
          <p:cNvPicPr/>
          <p:nvPr/>
        </p:nvPicPr>
        <p:blipFill>
          <a:blip r:embed="rId1"/>
          <a:stretch/>
        </p:blipFill>
        <p:spPr>
          <a:xfrm>
            <a:off x="2152800" y="1616040"/>
            <a:ext cx="7392960" cy="27115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76360" y="720720"/>
            <a:ext cx="9144000" cy="32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396080" y="1833480"/>
            <a:ext cx="744732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 u="sng">
                <a:solidFill>
                  <a:srgbClr val="f9397e"/>
                </a:solidFill>
                <a:uFillTx/>
                <a:latin typeface="Arial"/>
              </a:rPr>
              <a:t>LISTENING AND WORKING: um trabalho difer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f9397e"/>
                </a:solidFill>
                <a:latin typeface="Arial"/>
              </a:rPr>
              <a:t>Professor STE Clemilton – Professora STE Vâ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f9397e"/>
                </a:solidFill>
                <a:latin typeface="Arial"/>
              </a:rPr>
              <a:t>Matutino         -     Noturn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cc00cc"/>
                </a:solidFill>
                <a:latin typeface="Arial"/>
              </a:rPr>
              <a:t>ESCOLA ESTADUAL REYNALDO MAS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cc00cc"/>
                </a:solidFill>
                <a:latin typeface="Arial"/>
              </a:rPr>
              <a:t>Ivinhema - 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1079640" y="900000"/>
            <a:ext cx="8640720" cy="45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ÚBLICO ALV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rablus"/>
              </a:rPr>
              <a:t>Professores de Língua Inglesa do período Matutino e Notur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rablus"/>
              </a:rPr>
              <a:t>Alunos do 3º Ensino Médio “A” e “C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611280" y="1065240"/>
            <a:ext cx="8999280" cy="54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JETIVO GER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ts val="451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holoth;Times New Roman"/>
              </a:rPr>
              <a:t>Divulgar, utilizar e aperfeiçoar novas ferramentas tecnológicas educacionais envolvendo professores de Lingua Inglesa e alunos dos últimos anos do ensino médi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720720" y="1260360"/>
            <a:ext cx="86407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680000" y="1619280"/>
            <a:ext cx="1810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79280" y="208080"/>
            <a:ext cx="9899640" cy="72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5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BJETIVOS ESPECÍFICO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resentar a duas professoras de Língua Inglesa as diversas possibilidades de ensino-aprendizagem a partir de site interativ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lizar as ferramentas (kdenlive); estimular edição de vídeo, utilização e manuseio  de câmera digital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inar conversação e promover diálogos em Língua Inglesa tornando o aprendizado mais dinâmico e atrativ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179280" y="415800"/>
            <a:ext cx="989964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TODOLOG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scrições no site ( www.englishtown.com.br)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bertura de e-mail para os aluno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balho com os recursos do e-mail e sit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essar lições recebidas no e-mail pelo site citado e ouvi-las com os professores e aluno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539640" y="1079640"/>
            <a:ext cx="899964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inar a listening and speaking através das liçõe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ar teatralização das lições em sala e grava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resentar o Kdenlive aos professores e aluno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ções sobre o uso e recursos da câmera digital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itar os vídeos no Kdenlive e assisti-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fotos3anoA 001"/>
          <p:cNvPicPr/>
          <p:nvPr/>
        </p:nvPicPr>
        <p:blipFill>
          <a:blip r:embed="rId1"/>
          <a:stretch/>
        </p:blipFill>
        <p:spPr>
          <a:xfrm>
            <a:off x="0" y="0"/>
            <a:ext cx="5111640" cy="3557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fotos3anoA 008"/>
          <p:cNvPicPr/>
          <p:nvPr/>
        </p:nvPicPr>
        <p:blipFill>
          <a:blip r:embed="rId2"/>
          <a:stretch/>
        </p:blipFill>
        <p:spPr>
          <a:xfrm>
            <a:off x="5472000" y="0"/>
            <a:ext cx="4608720" cy="3564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fotos3anoA 005"/>
          <p:cNvPicPr/>
          <p:nvPr/>
        </p:nvPicPr>
        <p:blipFill>
          <a:blip r:embed="rId3"/>
          <a:stretch/>
        </p:blipFill>
        <p:spPr>
          <a:xfrm>
            <a:off x="0" y="3894120"/>
            <a:ext cx="5111640" cy="3665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fotos3anoA 007"/>
          <p:cNvPicPr/>
          <p:nvPr/>
        </p:nvPicPr>
        <p:blipFill>
          <a:blip r:embed="rId4"/>
          <a:stretch/>
        </p:blipFill>
        <p:spPr>
          <a:xfrm>
            <a:off x="5472000" y="3924360"/>
            <a:ext cx="460872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fotos3anoA 004"/>
          <p:cNvPicPr/>
          <p:nvPr/>
        </p:nvPicPr>
        <p:blipFill>
          <a:blip r:embed="rId1"/>
          <a:stretch/>
        </p:blipFill>
        <p:spPr>
          <a:xfrm>
            <a:off x="4753080" y="3564000"/>
            <a:ext cx="5327640" cy="3995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fotos3anoA 010"/>
          <p:cNvPicPr/>
          <p:nvPr/>
        </p:nvPicPr>
        <p:blipFill>
          <a:blip r:embed="rId2"/>
          <a:stretch/>
        </p:blipFill>
        <p:spPr>
          <a:xfrm>
            <a:off x="0" y="0"/>
            <a:ext cx="5904000" cy="44276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7"/>
          <p:cNvSpPr/>
          <p:nvPr/>
        </p:nvSpPr>
        <p:spPr>
          <a:xfrm>
            <a:off x="6264360" y="1258920"/>
            <a:ext cx="230508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Kdenlive - Linu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ARLA - NTE</dc:creator>
  <dc:description/>
  <dc:language>en-US</dc:language>
  <cp:lastModifiedBy>MicroCarla</cp:lastModifiedBy>
  <dcterms:modified xsi:type="dcterms:W3CDTF">2009-08-12T11:56:56Z</dcterms:modified>
  <cp:revision>6</cp:revision>
  <dc:subject/>
  <dc:title>Slide 1</dc:title>
</cp:coreProperties>
</file>